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E478-7598-47C3-A3E5-48279E712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2C1C-9BB5-4A18-BEBA-A2C0CEF5B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D7AC-380F-499B-842C-975DFEF41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C587-22E7-4C26-802A-757B64207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136C-75AD-4771-9C5D-88986130D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2FA2-F33B-4F35-9852-9B43191BF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E693-FB2E-4299-B29D-2422897E4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0D8F-BF56-4F30-911A-0D3123CF9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F454-4B84-4CCB-87E4-0C713ADA0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A98C-0548-46EF-9863-F33CF838E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E383-22D3-41F6-AA31-21DF8CE55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3A35-C580-4014-BC06-6736C6737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8522-EF8C-4CB8-93D4-FAE98A7B8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DFC7-4B27-4E21-9A28-879D40A65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B368-CB98-4B3B-ADE3-2A26CFEEF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E77F-729B-4206-A084-A4CD8D569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EE4C-EB8C-4865-B426-57D874265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1D4F-1D91-4CBC-9813-351C1345F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0C16-4731-4922-BB92-934266DEC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9CB5-31EC-4274-B19C-E94A37A4C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DD53E-0841-4A98-98F1-45BB36DB2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6F88A-996F-44C0-9DA2-AFDD36437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AC36D-837A-462A-9865-96EF69E5E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C2FFE-40D9-4615-8306-F67C9A6C6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A7771-45CC-45BA-B9B8-803C8E7FC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54DCD-6297-42C5-B28C-1BFC05FA7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D5D7D-5FA6-4539-88BC-1A8938E8A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E0273-BC60-4B16-999D-836BFBFA6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0FE60-26AA-46DD-80D1-952426963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2EEA2-1046-43C7-90C9-624DBD64A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6128-DCDF-4C20-AE7F-6F6042511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5830-1BBA-490C-B796-CB39B184F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8338-351D-4161-BBD3-EC57B9F348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houlden.sharon</cp:lastModifiedBy>
  <dcterms:modified xsi:type="dcterms:W3CDTF">2008-06-06T04:48:37Z</dcterms:modified>
  <cp:revision>119</cp:revision>
  <dc:subject/>
  <dc:title>Wikispaces for Teachers A guide to using them in your classroom</dc:title>
</cp:coreProperties>
</file>