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B416-4973-4F59-9BA1-3497CDBC6C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9A6C9-428E-494C-9147-B4707F7D4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05FE-2077-4F6A-AF5B-B4B720304E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9ABD-47F0-4A61-BCF5-552F22065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5B219-81B2-4F3E-B3CD-D7C1F6BA2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9715F-51A6-4D73-B643-8F9B2949D8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FB34D-F04B-41CB-9D94-BAB7FD98B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7456B-F396-43AB-AEEA-D436E2B292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4F5BB-042C-4F87-9074-A9A3AAE36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6AEC9-220B-4527-BFAE-A4729DD3F7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944FB-6FFD-460E-A771-3687ED37D5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4ADA-6405-47A4-99D8-0065169C96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BCAAF-201A-4854-B1AC-AC78A6E99F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1C020-65CE-4B78-A9E7-D95475DB8A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00800-5B5E-4451-8D3D-88560E1F17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6BE22-5F76-4040-8A1E-D7E41C4FA2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07BFB-11F2-4206-88FC-6087F3BB8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458C-75CA-446C-A6E6-7116276C8D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E54EE-BDD0-47C4-8D41-40F38108ED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31AF4-706B-4B57-A0B9-08CC7360F4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FCA83-358A-4D23-945A-C06CCCA33B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C2421-DAD4-4D90-A691-ED758FC41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431E6-6CD1-4E68-8DF7-9B04A3906B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4E7B1B-CDCF-4CD0-8DB2-8A2A16E28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BF6D83-5FD2-45DF-888D-698FDA61E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F17362-460D-4663-B66B-05E2CACDE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245DE-D538-4BA8-835A-69FF0BE8D9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A7EFA8-08C0-4F89-B382-31292CD7CC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62D71-2BFF-47E1-A7AD-79232115BA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6132D-2E19-4CC0-AD72-0DEAD3D1B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AA26F2-11B4-4620-B773-026759FA0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CB86D-72D9-4961-A1A1-ACA0EC69B6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FA085-2783-40FF-A76A-CFACF070A02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houlden.sharon</cp:lastModifiedBy>
  <dcterms:modified xsi:type="dcterms:W3CDTF">2008-06-06T04:48:37Z</dcterms:modified>
  <cp:revision>119</cp:revision>
  <dc:subject/>
  <dc:title>Wikispaces for Teachers A guide to using them in your classroom</dc:title>
</cp:coreProperties>
</file>