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83341-7A31-40D8-961E-6EE7AE153D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796F1-4DF2-4D57-9157-9300EB2C75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B9D47E-0820-46B3-854F-077394C1FE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A4419-20A2-4392-949F-DFF9CEECD6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3BB0E-0605-4EEA-BF51-52531927FA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A63A1-E1D7-4862-8D93-4284D6A1B8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F72A1-FBE0-4053-81FD-DBD8CB29FA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27DC5-3B51-466E-9CE0-88AABBEAE0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D9E0D-9F94-4332-AAD9-F8F668917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E62D9-1071-41AA-9670-F8EB5DFC1A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5B42DA-6DB2-4ED7-B06C-D85A8BB012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12C27-8D19-4FDF-9064-E7ADE7FA03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DAB6E-14A5-4158-A51F-B580FC9880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E609B-EC5A-4052-8534-CCB8C1821A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CCF7C-B4C9-4C79-9ECD-368C33D37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9AF00-0AB4-454A-9418-AB6D5B994F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B14E-837B-4B18-B9F6-761DB2311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B4B06-458E-4348-8700-6FFC2D9F5F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A184C-4ED7-4A4C-9CA1-72D85C5F46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5153B-81CB-4E1E-95A7-05F93E1CD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FF4E6-66DB-4157-86A0-674081A3C8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BC5185-3676-4F59-9AD9-A3EC0973E2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2BB054-AACA-4035-B816-297588373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9B16A3-76AB-47EA-AC8D-BA1D1BCB27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3A2CFE-F398-4C68-A917-5A74E3CD8E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72A8AC-286F-46B5-AEE4-1ACFE68900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19EC0-EBF5-420B-82B7-5AAD93FD8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BFFBF-8D6C-41DC-8BE0-7CE57521E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67C2D6-973B-4F5E-A4B2-EA4CB5951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46FBB-F615-4B48-B731-B5993F1CBA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709D3-5422-4133-B851-F63C63B279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3EB9C3-6A22-4CC9-B98E-4C0BC39D7E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5A8872-73E7-4C9A-98D1-EE63C8B86B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Object 1024"/>
          <p:cNvGraphicFramePr/>
          <p:nvPr/>
        </p:nvGraphicFramePr>
        <p:xfrm>
          <a:off x="563400" y="3429000"/>
          <a:ext cx="8009280" cy="3043080"/>
        </p:xfrm>
        <a:graphic>
          <a:graphicData uri="http://schemas.openxmlformats.org/presentationml/2006/ole">
            <p:oleObj r:id="rId2" spid="">
              <p:embed/>
              <p:pic>
                <p:nvPicPr>
                  <p:cNvPr id="81" name="Object 1024"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houlden.sharon</cp:lastModifiedBy>
  <dcterms:modified xsi:type="dcterms:W3CDTF">2008-06-06T04:48:37Z</dcterms:modified>
  <cp:revision>119</cp:revision>
  <dc:subject/>
  <dc:title>Wikispaces for Teachers A guide to using them in your classroom</dc:title>
</cp:coreProperties>
</file>